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F78-1812-4A42-A71F-9FE16AA6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A6F-2251-4729-85B5-7530CF5C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03C-2C56-42D1-AB0B-4F0A3F8B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E73-891D-4E8C-8F15-8D624276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9C88-0E6F-4BA3-A2AE-8B6B1AE1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D204-07B2-44CE-9C9D-42E2DE2F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5544-E6CC-423F-80AC-0A0BCFE9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F4A9-4896-4CEE-8569-B755896C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CB23-B2C1-42CA-9DE7-768D1287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7CFE-9086-4F02-8954-FEC72BF0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297E-29F5-4C3D-BDAE-64B0D9E5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D8F-0E2B-40A6-86B7-12AC1261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584E-D624-4174-A9BD-F4AEA02C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8338-BDCB-46A5-99BC-98C0E9FB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878E-D358-49F8-BB23-FE3AB7BF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BF84-171F-4A77-B9E1-0DA154DC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2218-5263-4CAF-BDE5-FA7F7931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D68-A082-4611-B10B-6C239781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1E8-4C1F-4D0D-83E7-7DF6AFAB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8D2-0CFA-42B2-8AF0-01589771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F2B-E8FF-4EC5-92BA-74536D3A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619-C8BD-4BD6-9814-B1D0B343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78B-7628-43B7-91E8-035D0EA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4EA-957A-446A-B541-0563FA1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2C64-58EA-485B-99A7-D12F895360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D52E-277D-41DF-810A-CE36ECBB3D0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«Традиции православия в Армии и  Флоте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90880" y="3933360"/>
            <a:ext cx="435276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полнил: Бродовиков Владимир Игореви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еник 10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уководитель: Мельниченко Марина Алексеевн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ель истор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orel3"/>
          <p:cNvPicPr/>
          <p:nvPr/>
        </p:nvPicPr>
        <p:blipFill>
          <a:blip r:embed="rId1"/>
          <a:stretch/>
        </p:blipFill>
        <p:spPr>
          <a:xfrm>
            <a:off x="468360" y="3500280"/>
            <a:ext cx="2857320" cy="2967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8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   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усские дружины шли в бой с благословения Церкви, под святыми знаменами и заступничеством чудотворных икон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6" descr="св4"/>
          <p:cNvPicPr/>
          <p:nvPr/>
        </p:nvPicPr>
        <p:blipFill>
          <a:blip r:embed="rId1"/>
          <a:stretch/>
        </p:blipFill>
        <p:spPr>
          <a:xfrm>
            <a:off x="2033640" y="2017800"/>
            <a:ext cx="607068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етр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6920" y="1916280"/>
            <a:ext cx="374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формировал институт военного духовенства. 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  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7" descr="петр1"/>
          <p:cNvPicPr/>
          <p:nvPr/>
        </p:nvPicPr>
        <p:blipFill>
          <a:blip r:embed="rId1"/>
          <a:stretch/>
        </p:blipFill>
        <p:spPr>
          <a:xfrm>
            <a:off x="5365800" y="2017800"/>
            <a:ext cx="336708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вященники армии и фл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ыли рядом с воинами в боя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лили все тяготы войн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лагословляли на подвиг храбрецо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одушевляли малодуш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вожали в последний путь убиты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8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орабельный священник крейсера «Варяг»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Михаил Руднев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Picture 5" descr="руднев"/>
          <p:cNvPicPr/>
          <p:nvPr/>
        </p:nvPicPr>
        <p:blipFill>
          <a:blip r:embed="rId1"/>
          <a:stretch/>
        </p:blipFill>
        <p:spPr>
          <a:xfrm>
            <a:off x="1500120" y="2354400"/>
            <a:ext cx="3175200" cy="344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варяг"/>
          <p:cNvPicPr/>
          <p:nvPr/>
        </p:nvPicPr>
        <p:blipFill>
          <a:blip r:embed="rId2"/>
          <a:stretch/>
        </p:blipFill>
        <p:spPr>
          <a:xfrm>
            <a:off x="5145120" y="2349360"/>
            <a:ext cx="380988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еволюционные бури развалили русскую армию и институт военного духовенства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5" descr="A89C89F036855C0AC621BF661DAC7268"/>
          <p:cNvPicPr/>
          <p:nvPr/>
        </p:nvPicPr>
        <p:blipFill>
          <a:blip r:embed="rId1"/>
          <a:stretch/>
        </p:blipFill>
        <p:spPr>
          <a:xfrm>
            <a:off x="1916280" y="2455920"/>
            <a:ext cx="2342880" cy="3238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krsv"/>
          <p:cNvPicPr/>
          <p:nvPr/>
        </p:nvPicPr>
        <p:blipFill>
          <a:blip r:embed="rId2"/>
          <a:stretch/>
        </p:blipFill>
        <p:spPr>
          <a:xfrm>
            <a:off x="5145120" y="2795760"/>
            <a:ext cx="3809880" cy="255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Церковь и армия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егодня российские военачальники, увидели в священниках реальных помощников в воспитании личного состав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 апреля 1997 г., министр обороны РФ и Патриарх Московский и Всея Руси подписали соглашение о сотрудничеств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0" descr="p2"/>
          <p:cNvPicPr/>
          <p:nvPr/>
        </p:nvPicPr>
        <p:blipFill>
          <a:blip r:embed="rId1"/>
          <a:stretch/>
        </p:blipFill>
        <p:spPr>
          <a:xfrm>
            <a:off x="4859280" y="1773360"/>
            <a:ext cx="3619440" cy="378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новные формы участия духовенства в работе с личным составом 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.Посещение воинских частей.      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 2.Проведение индивидуальных и групповых бесед с солдатами.      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 3. Освящение боевых знамен, оружия, техни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 4. Консультирование командир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    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5. Установление телефонов доверия в храмах.     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 наши дни под влиянием Церкви возрождаются утраченные традиции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6" descr="прсяга"/>
          <p:cNvPicPr/>
          <p:nvPr/>
        </p:nvPicPr>
        <p:blipFill>
          <a:blip r:embed="rId1"/>
          <a:stretch/>
        </p:blipFill>
        <p:spPr>
          <a:xfrm>
            <a:off x="2124000" y="2060640"/>
            <a:ext cx="5543640" cy="403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Organization Chart 4"/>
          <p:cNvGrpSpPr/>
          <p:nvPr/>
        </p:nvGrpSpPr>
        <p:grpSpPr>
          <a:xfrm>
            <a:off x="1150920" y="214200"/>
            <a:ext cx="7803720" cy="5918400"/>
            <a:chOff x="1150920" y="214200"/>
            <a:chExt cx="7803720" cy="5918400"/>
          </a:xfrm>
        </p:grpSpPr>
        <p:cxnSp>
          <p:nvCxnSpPr>
            <p:cNvPr id="140" name="_s1028"/>
            <p:cNvCxnSpPr>
              <a:stCxn id="141" idx="1"/>
              <a:endCxn id="142" idx="2"/>
            </p:cNvCxnSpPr>
            <p:nvPr/>
          </p:nvCxnSpPr>
          <p:spPr>
            <a:xfrm rot="10800000">
              <a:off x="6854040" y="1954080"/>
              <a:ext cx="299880" cy="3830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29"/>
            <p:cNvCxnSpPr>
              <a:stCxn id="144" idx="1"/>
              <a:endCxn id="142" idx="2"/>
            </p:cNvCxnSpPr>
            <p:nvPr/>
          </p:nvCxnSpPr>
          <p:spPr>
            <a:xfrm rot="10800000">
              <a:off x="6854040" y="1954080"/>
              <a:ext cx="299880" cy="278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30"/>
            <p:cNvCxnSpPr>
              <a:stCxn id="146" idx="1"/>
              <a:endCxn id="142" idx="2"/>
            </p:cNvCxnSpPr>
            <p:nvPr/>
          </p:nvCxnSpPr>
          <p:spPr>
            <a:xfrm rot="10800000">
              <a:off x="6854040" y="1954080"/>
              <a:ext cx="299880" cy="174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1031"/>
            <p:cNvCxnSpPr>
              <a:stCxn id="148" idx="1"/>
              <a:endCxn id="142" idx="2"/>
            </p:cNvCxnSpPr>
            <p:nvPr/>
          </p:nvCxnSpPr>
          <p:spPr>
            <a:xfrm rot="10800000">
              <a:off x="6854040" y="1954080"/>
              <a:ext cx="299880" cy="69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032"/>
            <p:cNvCxnSpPr>
              <a:stCxn id="150" idx="1"/>
              <a:endCxn id="151" idx="2"/>
            </p:cNvCxnSpPr>
            <p:nvPr/>
          </p:nvCxnSpPr>
          <p:spPr>
            <a:xfrm rot="10800000">
              <a:off x="4452480" y="1954080"/>
              <a:ext cx="300600" cy="278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033"/>
            <p:cNvCxnSpPr>
              <a:stCxn id="153" idx="1"/>
              <a:endCxn id="151" idx="2"/>
            </p:cNvCxnSpPr>
            <p:nvPr/>
          </p:nvCxnSpPr>
          <p:spPr>
            <a:xfrm rot="10800000">
              <a:off x="4452480" y="1954080"/>
              <a:ext cx="300600" cy="174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034"/>
            <p:cNvCxnSpPr>
              <a:stCxn id="155" idx="1"/>
              <a:endCxn id="151" idx="2"/>
            </p:cNvCxnSpPr>
            <p:nvPr/>
          </p:nvCxnSpPr>
          <p:spPr>
            <a:xfrm rot="10800000">
              <a:off x="4452480" y="1954080"/>
              <a:ext cx="300600" cy="69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35"/>
            <p:cNvCxnSpPr>
              <a:stCxn id="157" idx="1"/>
              <a:endCxn id="158" idx="2"/>
            </p:cNvCxnSpPr>
            <p:nvPr/>
          </p:nvCxnSpPr>
          <p:spPr>
            <a:xfrm rot="10800000">
              <a:off x="2051280" y="1954080"/>
              <a:ext cx="300600" cy="3830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6"/>
            <p:cNvCxnSpPr>
              <a:stCxn id="160" idx="1"/>
              <a:endCxn id="158" idx="2"/>
            </p:cNvCxnSpPr>
            <p:nvPr/>
          </p:nvCxnSpPr>
          <p:spPr>
            <a:xfrm rot="10800000">
              <a:off x="2051280" y="1954080"/>
              <a:ext cx="300600" cy="278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7"/>
            <p:cNvCxnSpPr>
              <a:stCxn id="162" idx="1"/>
              <a:endCxn id="158" idx="2"/>
            </p:cNvCxnSpPr>
            <p:nvPr/>
          </p:nvCxnSpPr>
          <p:spPr>
            <a:xfrm rot="10800000">
              <a:off x="2051280" y="1954080"/>
              <a:ext cx="300600" cy="174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38"/>
            <p:cNvCxnSpPr>
              <a:stCxn id="164" idx="1"/>
              <a:endCxn id="158" idx="2"/>
            </p:cNvCxnSpPr>
            <p:nvPr/>
          </p:nvCxnSpPr>
          <p:spPr>
            <a:xfrm rot="10800000">
              <a:off x="2051280" y="1954080"/>
              <a:ext cx="300600" cy="69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9"/>
            <p:cNvCxnSpPr>
              <a:stCxn id="142" idx="0"/>
              <a:endCxn id="166" idx="2"/>
            </p:cNvCxnSpPr>
            <p:nvPr/>
          </p:nvCxnSpPr>
          <p:spPr>
            <a:xfrm flipV="1" rot="16200000">
              <a:off x="5478840" y="-117360"/>
              <a:ext cx="348840" cy="2402640"/>
            </a:xfrm>
            <a:prstGeom prst="bentConnector3">
              <a:avLst>
                <a:gd name="adj1" fmla="val 360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40"/>
            <p:cNvCxnSpPr>
              <a:stCxn id="151" idx="0"/>
              <a:endCxn id="166" idx="2"/>
            </p:cNvCxnSpPr>
            <p:nvPr/>
          </p:nvCxnSpPr>
          <p:spPr>
            <a:xfrm flipV="1">
              <a:off x="4452480" y="909720"/>
              <a:ext cx="1440" cy="34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1041"/>
            <p:cNvCxnSpPr>
              <a:stCxn id="158" idx="0"/>
              <a:endCxn id="166" idx="2"/>
            </p:cNvCxnSpPr>
            <p:nvPr/>
          </p:nvCxnSpPr>
          <p:spPr>
            <a:xfrm flipH="1" flipV="1" rot="5400000">
              <a:off x="3077640" y="-116640"/>
              <a:ext cx="348840" cy="2401920"/>
            </a:xfrm>
            <a:prstGeom prst="bentConnector3">
              <a:avLst>
                <a:gd name="adj1" fmla="val 360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1042"/>
            <p:cNvSpPr/>
            <p:nvPr/>
          </p:nvSpPr>
          <p:spPr>
            <a:xfrm>
              <a:off x="3552120" y="214200"/>
              <a:ext cx="180072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Система  традиций Вооруженных Сил России.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_s1043"/>
            <p:cNvSpPr/>
            <p:nvPr/>
          </p:nvSpPr>
          <p:spPr>
            <a:xfrm>
              <a:off x="1150920" y="1258560"/>
              <a:ext cx="180072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Боевые традиции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44"/>
            <p:cNvSpPr/>
            <p:nvPr/>
          </p:nvSpPr>
          <p:spPr>
            <a:xfrm>
              <a:off x="3552120" y="1258560"/>
              <a:ext cx="180072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Традиции воинского быта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1045"/>
            <p:cNvSpPr/>
            <p:nvPr/>
          </p:nvSpPr>
          <p:spPr>
            <a:xfrm>
              <a:off x="5953320" y="1258560"/>
              <a:ext cx="180072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Традиции обучения и воспитания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_s1046"/>
            <p:cNvSpPr/>
            <p:nvPr/>
          </p:nvSpPr>
          <p:spPr>
            <a:xfrm>
              <a:off x="2351520" y="2302920"/>
              <a:ext cx="180072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Верность присяге и воинскому долгу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_s1047"/>
            <p:cNvSpPr/>
            <p:nvPr/>
          </p:nvSpPr>
          <p:spPr>
            <a:xfrm>
              <a:off x="2351520" y="3347280"/>
              <a:ext cx="180072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Взаимовыручка в бою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_s1048"/>
            <p:cNvSpPr/>
            <p:nvPr/>
          </p:nvSpPr>
          <p:spPr>
            <a:xfrm>
              <a:off x="2351520" y="4391640"/>
              <a:ext cx="180072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Верность боевому знамени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_s1049"/>
            <p:cNvSpPr/>
            <p:nvPr/>
          </p:nvSpPr>
          <p:spPr>
            <a:xfrm>
              <a:off x="2351520" y="5436360"/>
              <a:ext cx="180072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Гуманное отношение к поверженному противнику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_s1050"/>
            <p:cNvSpPr/>
            <p:nvPr/>
          </p:nvSpPr>
          <p:spPr>
            <a:xfrm>
              <a:off x="4752720" y="2302920"/>
              <a:ext cx="180000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Поддержание воинской чести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51"/>
            <p:cNvSpPr/>
            <p:nvPr/>
          </p:nvSpPr>
          <p:spPr>
            <a:xfrm>
              <a:off x="4752720" y="3347280"/>
              <a:ext cx="180072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Соблюдение внутреннего порядка в части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52"/>
            <p:cNvSpPr/>
            <p:nvPr/>
          </p:nvSpPr>
          <p:spPr>
            <a:xfrm>
              <a:off x="4752720" y="4391640"/>
              <a:ext cx="180072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Соблюдение образцового внешнего вида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1053"/>
            <p:cNvSpPr/>
            <p:nvPr/>
          </p:nvSpPr>
          <p:spPr>
            <a:xfrm>
              <a:off x="7153920" y="2302920"/>
              <a:ext cx="180000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Добросовестное отношение к изучению военного дела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1054"/>
            <p:cNvSpPr/>
            <p:nvPr/>
          </p:nvSpPr>
          <p:spPr>
            <a:xfrm>
              <a:off x="7153920" y="3347280"/>
              <a:ext cx="180072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Взаимопомощь в боевой учебе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1055"/>
            <p:cNvSpPr/>
            <p:nvPr/>
          </p:nvSpPr>
          <p:spPr>
            <a:xfrm>
              <a:off x="7153920" y="4391640"/>
              <a:ext cx="180000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Воспитание воинской дисциплины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_s1056"/>
            <p:cNvSpPr/>
            <p:nvPr/>
          </p:nvSpPr>
          <p:spPr>
            <a:xfrm>
              <a:off x="7153920" y="5436360"/>
              <a:ext cx="1800000" cy="696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Патриотизм, жертвенное служение своей Родине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836280"/>
            <a:ext cx="77724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Традиция в жизни – великое дело. Она передает из рода в род добрые обычаи и часто охраняет нравы. Она объединяет, воодушевляет и двигает массы. В военной жизни традиции имеют огромное значение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Протопресвитер Георгий Шавельски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итуал посвящения в воины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5" descr="священник"/>
          <p:cNvPicPr/>
          <p:nvPr/>
        </p:nvPicPr>
        <p:blipFill>
          <a:blip r:embed="rId1"/>
          <a:stretch/>
        </p:blipFill>
        <p:spPr>
          <a:xfrm>
            <a:off x="2484360" y="2060640"/>
            <a:ext cx="489600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Ритуал смотра дружины перед выступлением в боевой поход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" name="Picture 5" descr="св5"/>
          <p:cNvPicPr/>
          <p:nvPr/>
        </p:nvPicPr>
        <p:blipFill>
          <a:blip r:embed="rId1"/>
          <a:stretch/>
        </p:blipFill>
        <p:spPr>
          <a:xfrm>
            <a:off x="2771640" y="1916280"/>
            <a:ext cx="3888000" cy="3384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551628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Не пощадим жизни своей за землю русскую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радиция почитания стяга, хоругви как воинской святыни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Picture 5" descr="uznamm"/>
          <p:cNvPicPr/>
          <p:nvPr/>
        </p:nvPicPr>
        <p:blipFill>
          <a:blip r:embed="rId1"/>
          <a:stretch/>
        </p:blipFill>
        <p:spPr>
          <a:xfrm>
            <a:off x="3730680" y="2017800"/>
            <a:ext cx="3146400" cy="27795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486900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им из самых почетных поощрений для воина является фотографирование у развернутого Боевого Знамени час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Милосердие по отношению к врагу - черта русского национального характер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ой за крепость Корфу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799 г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сские офицеры спасали своих врагов-французов от изуверства турецких солдат. Наши офицеры и матросы кинулись за турками, и так как мусульманам за каждую голову выдавалось по червонцу, то наши начали собственными деньгами выкупать пленны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71600" y="765000"/>
            <a:ext cx="7772400" cy="53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ждый род войск и каждый корабль имел своего Небесного Покровителя и свой почитаемый образ святого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ебесным покровителем подводников - пророк Иона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2" name="Picture 5" descr="prorok_iliya_4"/>
          <p:cNvPicPr/>
          <p:nvPr/>
        </p:nvPicPr>
        <p:blipFill>
          <a:blip r:embed="rId1"/>
          <a:stretch/>
        </p:blipFill>
        <p:spPr>
          <a:xfrm>
            <a:off x="2340000" y="1989000"/>
            <a:ext cx="4248000" cy="403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кровитель погранвойск – преподобный Илия Муромец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Picture 5" descr="st_w100_muromec"/>
          <p:cNvPicPr/>
          <p:nvPr/>
        </p:nvPicPr>
        <p:blipFill>
          <a:blip r:embed="rId1"/>
          <a:stretch/>
        </p:blipFill>
        <p:spPr>
          <a:xfrm>
            <a:off x="2577960" y="2060640"/>
            <a:ext cx="2643480" cy="419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кровительница ракетных войск стратегического назначения – святая великомученица Варвара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Picture 6" descr="st_w100_varvara"/>
          <p:cNvPicPr/>
          <p:nvPr/>
        </p:nvPicPr>
        <p:blipFill>
          <a:blip r:embed="rId1"/>
          <a:stretch/>
        </p:blipFill>
        <p:spPr>
          <a:xfrm>
            <a:off x="2771640" y="1989000"/>
            <a:ext cx="396108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иколай чудотворец -  покровитель ВМФ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Picture 6" descr="nikolas1"/>
          <p:cNvPicPr/>
          <p:nvPr/>
        </p:nvPicPr>
        <p:blipFill>
          <a:blip r:embed="rId1"/>
          <a:stretch/>
        </p:blipFill>
        <p:spPr>
          <a:xfrm>
            <a:off x="2411280" y="1916280"/>
            <a:ext cx="3481560" cy="381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Традиц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стойчивый, передающийся из поколения в поколение социальный опыт в виде привычек, норм поведения, обычаев, идей, сохраняющийся в течение длительного времен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Традиции и ритуалы на Флот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овать в морских сражениях с максимальной самоотверженностью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раблям категорически запрещалось спускать перед любым противником флаги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ороться за живучесть корабля до последней возможност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бнувший корабль последним покидает командир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давать воинские почести при прохождении мест героических подвигов отечественных моря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лаг во имя святого апостола Андрея Первозванного, покровителя России и ее флота, символизировал собой, прежде всего религиозное отличие России от Запада – Православную вер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6" descr="andrey_pervozv_1"/>
          <p:cNvPicPr/>
          <p:nvPr/>
        </p:nvPicPr>
        <p:blipFill>
          <a:blip r:embed="rId1"/>
          <a:stretch/>
        </p:blipFill>
        <p:spPr>
          <a:xfrm>
            <a:off x="5435640" y="1844640"/>
            <a:ext cx="3097080" cy="4105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Традиция  почитания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оенно-Морского Андреевского стяга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Андреевский флаг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45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"Для этого флага характерно:  слияние с народной душой – в нем рассказы стариков-ветеранов, пушечный гром и гарь пороха, слезы морячек и последний судорожный вздох убитого канонира, ликование Чесмы и всенародное горе Цусимы. Этот флаг неотделим от национальной души русского народа»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. Лысенк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8" descr="04_02_01_big"/>
          <p:cNvPicPr/>
          <p:nvPr/>
        </p:nvPicPr>
        <p:blipFill>
          <a:blip r:embed="rId1"/>
          <a:stretch/>
        </p:blipFill>
        <p:spPr>
          <a:xfrm>
            <a:off x="5145120" y="3035160"/>
            <a:ext cx="3809880" cy="2078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Традиция «бить склянки»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4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Один час прошел, в два поворота больше пройдет, если будет Господня воля. Помолимся Богу дать нам хороший поход и Ей, Матери Божией, Защитнице нашей, уберечь нас от откачивания воды помпами и других несчастий. Вперед – Агой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5" descr="skljan"/>
          <p:cNvPicPr/>
          <p:nvPr/>
        </p:nvPicPr>
        <p:blipFill>
          <a:blip r:embed="rId1"/>
          <a:stretch/>
        </p:blipFill>
        <p:spPr>
          <a:xfrm>
            <a:off x="5888160" y="3255840"/>
            <a:ext cx="2323800" cy="163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Церемония спуска на воду нового корабл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Picture 6" descr="освящ корабля"/>
          <p:cNvPicPr/>
          <p:nvPr/>
        </p:nvPicPr>
        <p:blipFill>
          <a:blip r:embed="rId1"/>
          <a:stretch/>
        </p:blipFill>
        <p:spPr>
          <a:xfrm>
            <a:off x="3521160" y="2017800"/>
            <a:ext cx="309564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Традиц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мяти павших защитников Отечеств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3" name="Picture 6" descr="спуск венков"/>
          <p:cNvPicPr/>
          <p:nvPr/>
        </p:nvPicPr>
        <p:blipFill>
          <a:blip r:embed="rId1"/>
          <a:stretch/>
        </p:blipFill>
        <p:spPr>
          <a:xfrm>
            <a:off x="1990800" y="2017800"/>
            <a:ext cx="615636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вятыней являлись воинские и морские кладбища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Picture 8" descr="pam"/>
          <p:cNvPicPr/>
          <p:nvPr/>
        </p:nvPicPr>
        <p:blipFill>
          <a:blip r:embed="rId1"/>
          <a:stretch/>
        </p:blipFill>
        <p:spPr>
          <a:xfrm>
            <a:off x="5724360" y="2276640"/>
            <a:ext cx="2303640" cy="3024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55897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рское кладбище во Владивосто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10" descr="1"/>
          <p:cNvPicPr/>
          <p:nvPr/>
        </p:nvPicPr>
        <p:blipFill>
          <a:blip r:embed="rId2"/>
          <a:stretch/>
        </p:blipFill>
        <p:spPr>
          <a:xfrm>
            <a:off x="900000" y="2060640"/>
            <a:ext cx="381024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тец Андрей – настоятель храма Успения Пресвятой Богородицы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Picture 8" descr="S3010010"/>
          <p:cNvPicPr/>
          <p:nvPr/>
        </p:nvPicPr>
        <p:blipFill>
          <a:blip r:embed="rId1"/>
          <a:stretch/>
        </p:blipFill>
        <p:spPr>
          <a:xfrm>
            <a:off x="2325600" y="2017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Не нужно бездумно жертвовать своим здоровьем и жизнью ради денег, славы или губить себя  алкоголем и наркотиками. Но если нужно будет защищать свою Родину, Великую Православную Русь, каждый должен встать и выполнить свой долг. Это как раз и есть настоящий героизм и настоящее мужество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6" descr="S3010017"/>
          <p:cNvPicPr/>
          <p:nvPr/>
        </p:nvPicPr>
        <p:blipFill>
          <a:blip r:embed="rId1"/>
          <a:stretch/>
        </p:blipFill>
        <p:spPr>
          <a:xfrm>
            <a:off x="4572000" y="2060640"/>
            <a:ext cx="4383000" cy="3443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енитно –ракетный дивизион в/ч №8326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Picture 9" descr="S3010014"/>
          <p:cNvPicPr/>
          <p:nvPr/>
        </p:nvPicPr>
        <p:blipFill>
          <a:blip r:embed="rId1"/>
          <a:stretch/>
        </p:blipFill>
        <p:spPr>
          <a:xfrm>
            <a:off x="1544760" y="201780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" descr="C:\Users\Кот\Desktop\марчук 10004.TIF"/>
          <p:cNvPicPr/>
          <p:nvPr/>
        </p:nvPicPr>
        <p:blipFill>
          <a:blip r:embed="rId2"/>
          <a:stretch/>
        </p:blipFill>
        <p:spPr>
          <a:xfrm>
            <a:off x="5683320" y="2017800"/>
            <a:ext cx="273204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1268280"/>
            <a:ext cx="77929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облем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зрушение традиционных для народов России нравственных ценностей,  духовная опустошенность в Армии и Флот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1999800"/>
            <a:ext cx="64008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я работа в Армии и на Флоте должна быть направлена на восстановление православных тради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м нужна обладающая высоким духом, достойно обеспеченная Арм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ы, будущие Защитники Отечества,   заинтересованы в том, чтобы Армия была сильной, а Россия - Велик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паганда православных традиций Российской Армии и Фло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традиции Православия в Армии и Флоте по литературным источникам и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комитьсяс традициями  военной части № 8326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устить буклет для учащихся старших классов «Традиции православия в Армии и на Флоте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казать  презентацию  «Традиции православия в Армии и на Флоте» среди военнослужащих военной части № 8326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етоды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накомство с традициями православия в Армии и на Флоте через литературные источники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нтервь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600" y="765000"/>
            <a:ext cx="7772400" cy="53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Русское войско держалось двумя силами: железной дисциплиной, без которой не может существовать никакая армия, да верой. Верой, которая давала ему возможность воевать не за страх, а за сове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Русский публицис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.Н. Булгаков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track06.mp3" descr=""/>
          <p:cNvPicPr/>
          <p:nvPr/>
        </p:nvPicPr>
        <p:blipFill>
          <a:blip r:embed="rId1"/>
          <a:stretch/>
        </p:blipFill>
        <p:spPr>
          <a:xfrm>
            <a:off x="1428840" y="47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9033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     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24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ладимир Мономах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ервым ввел традицию освящения русского воин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Мономах"/>
          <p:cNvPicPr/>
          <p:nvPr/>
        </p:nvPicPr>
        <p:blipFill>
          <a:blip r:embed="rId1"/>
          <a:stretch/>
        </p:blipFill>
        <p:spPr>
          <a:xfrm>
            <a:off x="5467320" y="2017800"/>
            <a:ext cx="316404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1:13:09Z</dcterms:created>
  <dc:creator>1</dc:creator>
  <dc:description/>
  <dc:language>en-US</dc:language>
  <cp:lastModifiedBy>1</cp:lastModifiedBy>
  <dcterms:modified xsi:type="dcterms:W3CDTF">2010-01-19T12:28:40Z</dcterms:modified>
  <cp:revision>16</cp:revision>
  <dc:subject/>
  <dc:title>Исследовательская работа «Традиции православия в Армии и на Флоте»</dc:title>
</cp:coreProperties>
</file>